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0063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08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B733-46DE-4A6B-B542-F17CFA8A735C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8F41-9309-4042-AFA7-7B585ABAEAA8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4617b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F6B-7F25-4E4A-A16B-84C981C0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126-1B5A-46AC-A314-E1143A69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048-B045-473C-9538-31CA34F0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090-8ABC-4CC6-84A6-1E481487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3DC8-D205-44AA-A199-82F0B39E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49BA-9B60-4085-983B-20FCA1E5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19A-865C-48EC-B674-18421896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872E-35F8-4EB4-AC12-51EBB9C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9793-12B7-4064-B8BC-EBA0E89F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0741-4946-4A1B-B581-AF9F0FA9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AF12-04E7-4CF3-8778-6AF3B4ED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2E0-EA02-496D-A79B-C04FFAC7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AD47-1E17-41A6-A9FF-75BA2077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419F-CAC0-49F9-AA65-360870C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D5DC-E2DB-494F-BA92-BB425951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5D19-13E3-4C1F-BFDE-CF22550B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BE92-F673-496E-AF60-F2ABC74F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7669D-3202-408B-A560-1D6E2E54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3485-F3B1-4B7C-A14F-BB2EB5AA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1A11-96DB-4AB4-BD9C-244DEFC3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66BA-EEA4-47DC-8474-4A420DF1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9E7D-A19B-4BC6-BE2F-0B85B738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ABD-BDC6-468F-869E-7B30E31B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C037-CE1C-44D9-9EB6-CBAB430B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C2E3-1755-4169-B379-C6F48EA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96FB5-1F5A-404C-91CD-6B01E80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BC7A-D8CF-416A-A2A7-01F986AA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D0CD-ADDF-43D7-A2B4-F54E498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0C94-E9F0-483E-BA91-0A2D9A9B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635F-894D-4F02-A93A-B9BAC94B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2A77-5124-4812-8495-1A884AA9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8FB6F-D370-4A90-8FFC-458D8D2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AD42E-D1D0-4F8F-AF4C-CEB3D290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548-D128-44B8-9D87-D2AF28C9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1FDA-DA18-4B4B-941C-D0988020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634A-401D-4255-9689-9E76B52A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C37D-DED2-4400-8525-8EA583B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9DFA-7675-4FD5-A206-3E924761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66FD-F7B7-4A4B-8361-63273F1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1627-B429-450C-AFBF-F5B1EC8E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41A5-82A0-4767-AE87-14F6545E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D63F-6652-413C-93DD-9E0109E1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25FB-7CE1-4F60-8112-F9CAB38E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00F-D4C5-48BB-88BD-57C913F5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984-52F4-432C-96D9-2B699DD2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CC4-9648-4C5C-83CC-EBDB10F5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DF2-4F2C-425B-BC93-E2F40EB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E92-1A3D-493C-AD0F-E4B6C390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F2D1-4BB2-4573-9C40-B164E1AA77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F870-7FD6-4693-8EAA-65E44AC0A54C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4617b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BEA3-1574-4B91-A5FB-1126C0B4657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FABD-9D9D-435E-93B1-DBAC89E5BA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57160" y="307152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Químic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  <a:ea typeface="Arial"/>
              </a:rPr>
              <a:t>MONICA LILIANA CAMARGO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                  </a:t>
            </a:r>
            <a:endParaRPr b="0" lang="en-US" sz="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</a:t>
            </a:r>
            <a:endParaRPr b="0" lang="en-US" sz="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4" descr="Scan0014"/>
          <p:cNvPicPr/>
          <p:nvPr/>
        </p:nvPicPr>
        <p:blipFill>
          <a:blip r:embed="rId1"/>
          <a:stretch/>
        </p:blipFill>
        <p:spPr>
          <a:xfrm>
            <a:off x="901800" y="1566720"/>
            <a:ext cx="1481040" cy="306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5602320" y="1311120"/>
            <a:ext cx="2419200" cy="139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6840" y="1341360"/>
            <a:ext cx="838188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La </a:t>
            </a:r>
            <a:r>
              <a:rPr b="1" lang="es-ES_tradnl" sz="2000" spc="-1" strike="noStrike" u="sng">
                <a:solidFill>
                  <a:srgbClr val="85dfd0"/>
                </a:solidFill>
                <a:uFillTx/>
                <a:latin typeface="Times New Roman"/>
              </a:rPr>
              <a:t>fórmula química</a:t>
            </a: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 expresa la </a:t>
            </a:r>
            <a:r>
              <a:rPr b="1" i="1" lang="es-ES_tradnl" sz="2000" spc="-1" strike="noStrike">
                <a:solidFill>
                  <a:srgbClr val="85dfd0"/>
                </a:solidFill>
                <a:latin typeface="Times New Roman"/>
              </a:rPr>
              <a:t>composición de </a:t>
            </a:r>
            <a:r>
              <a:rPr b="1" i="1" lang="es-ES_tradnl" sz="2000" spc="-1" strike="noStrike" u="sng">
                <a:solidFill>
                  <a:srgbClr val="85dfd0"/>
                </a:solidFill>
                <a:uFillTx/>
                <a:latin typeface="Times New Roman"/>
              </a:rPr>
              <a:t>moléculas y compuestos mediante símbolos químic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El Nº de compuestos químicos conocidos es superior a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  </a:t>
            </a:r>
            <a:r>
              <a:rPr b="1" lang="es-ES_tradnl" sz="2000" spc="-1" strike="noStrike" u="sng">
                <a:solidFill>
                  <a:srgbClr val="85dfd0"/>
                </a:solidFill>
                <a:uFillTx/>
                <a:latin typeface="Times New Roman"/>
              </a:rPr>
              <a:t>13 millones</a:t>
            </a: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3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5dfd0"/>
                </a:solidFill>
                <a:latin typeface="Times New Roman"/>
              </a:rPr>
              <a:t>Método sistemático de nombrar los compuestos: </a:t>
            </a:r>
            <a:r>
              <a:rPr b="1" lang="es-ES_tradnl" sz="2000" spc="-1" strike="noStrike" u="sng">
                <a:solidFill>
                  <a:srgbClr val="85dfd0"/>
                </a:solidFill>
                <a:uFillTx/>
                <a:latin typeface="Times New Roman"/>
              </a:rPr>
              <a:t>NOMENCLATUR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AutoShape 74"/>
          <p:cNvSpPr/>
          <p:nvPr/>
        </p:nvSpPr>
        <p:spPr>
          <a:xfrm>
            <a:off x="4429080" y="321480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e2d700"/>
          </a:solidFill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857160" y="2142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4617b"/>
                </a:solidFill>
                <a:uFillTx/>
                <a:latin typeface="Times New Roman"/>
              </a:rPr>
              <a:t>Formulación y Nomenclatura en Química Inorgánica</a:t>
            </a:r>
            <a:endParaRPr b="0" lang="en-US" sz="2800" spc="-1" strike="noStrike">
              <a:solidFill>
                <a:srgbClr val="04617b"/>
              </a:solidFill>
              <a:latin typeface="Comic Sans MS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6407280" y="2706840"/>
            <a:ext cx="1189080" cy="2670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1335240" y="2779560"/>
            <a:ext cx="1401480" cy="2706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785880" y="571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imes New Roman"/>
              </a:rPr>
              <a:t>Sistemas de Nomenclaturas</a:t>
            </a:r>
            <a:endParaRPr b="0" lang="en-US" sz="3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28760" y="228600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724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72428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istemática (propuesta por la IUPAC)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tock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radicional (el sistema más antiguo)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212" name="Group 13"/>
          <p:cNvGrpSpPr/>
          <p:nvPr/>
        </p:nvGrpSpPr>
        <p:grpSpPr>
          <a:xfrm>
            <a:off x="6886440" y="1857240"/>
            <a:ext cx="1828800" cy="2928960"/>
            <a:chOff x="6886440" y="1857240"/>
            <a:chExt cx="1828800" cy="2928960"/>
          </a:xfrm>
        </p:grpSpPr>
        <p:sp>
          <p:nvSpPr>
            <p:cNvPr id="213" name="Text Box 11"/>
            <p:cNvSpPr/>
            <p:nvPr/>
          </p:nvSpPr>
          <p:spPr>
            <a:xfrm>
              <a:off x="6886440" y="1882080"/>
              <a:ext cx="1828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4617b"/>
                  </a:solidFill>
                  <a:latin typeface="Comic Sans MS"/>
                </a:rPr>
                <a:t>Unión Internacional de Química Pura y Aplicada</a:t>
              </a:r>
              <a:r>
                <a:rPr b="0" lang="es-ES" sz="1800" spc="-1" strike="noStrike">
                  <a:solidFill>
                    <a:srgbClr val="04617b"/>
                  </a:solidFill>
                  <a:latin typeface="Comic Sans MS"/>
                </a:rPr>
                <a:t> (</a:t>
              </a:r>
              <a:r>
                <a:rPr b="0" i="1" lang="es-ES" sz="1800" spc="-1" strike="noStrike">
                  <a:solidFill>
                    <a:srgbClr val="04617b"/>
                  </a:solidFill>
                  <a:latin typeface="Comic Sans MS"/>
                </a:rPr>
                <a:t>International Union of Pure and Applied Chemistry</a:t>
              </a:r>
              <a:r>
                <a:rPr b="0" lang="es-ES" sz="1800" spc="-1" strike="noStrike">
                  <a:solidFill>
                    <a:srgbClr val="04617b"/>
                  </a:solidFill>
                  <a:latin typeface="Comic Sans MS"/>
                </a:rPr>
                <a:t>, </a:t>
              </a:r>
              <a:r>
                <a:rPr b="1" lang="es-ES" sz="1800" spc="-1" strike="noStrike">
                  <a:solidFill>
                    <a:srgbClr val="04617b"/>
                  </a:solidFill>
                  <a:latin typeface="Comic Sans MS"/>
                </a:rPr>
                <a:t>IUPAC</a:t>
              </a:r>
              <a:r>
                <a:rPr b="0" lang="es-ES" sz="1800" spc="-1" strike="noStrike">
                  <a:solidFill>
                    <a:srgbClr val="04617b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6886440" y="1857240"/>
              <a:ext cx="1676520" cy="2928960"/>
            </a:xfrm>
            <a:prstGeom prst="rect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785880" y="4643280"/>
            <a:ext cx="1828800" cy="180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786120" y="4643280"/>
            <a:ext cx="1505160" cy="1643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6029280" y="5072040"/>
            <a:ext cx="1185840" cy="136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3"/>
          <p:cNvSpPr/>
          <p:nvPr/>
        </p:nvSpPr>
        <p:spPr>
          <a:xfrm>
            <a:off x="304920" y="457200"/>
            <a:ext cx="8316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cxnSp>
        <p:nvCxnSpPr>
          <p:cNvPr id="219" name="_s60457"/>
          <p:cNvCxnSpPr>
            <a:stCxn id="220" idx="0"/>
          </p:cNvCxnSpPr>
          <p:nvPr/>
        </p:nvCxnSpPr>
        <p:spPr>
          <a:xfrm flipV="1" rot="16200000">
            <a:off x="7567200" y="3448800"/>
            <a:ext cx="488160" cy="69768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1" name="_s60455"/>
          <p:cNvCxnSpPr>
            <a:stCxn id="222" idx="0"/>
          </p:cNvCxnSpPr>
          <p:nvPr/>
        </p:nvCxnSpPr>
        <p:spPr>
          <a:xfrm flipH="1" flipV="1" rot="5400000">
            <a:off x="6782760" y="3361680"/>
            <a:ext cx="488160" cy="87228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3" name="_s60453"/>
          <p:cNvCxnSpPr>
            <a:endCxn id="224" idx="2"/>
          </p:cNvCxnSpPr>
          <p:nvPr/>
        </p:nvCxnSpPr>
        <p:spPr>
          <a:xfrm flipV="1" rot="16200000">
            <a:off x="5304960" y="4812840"/>
            <a:ext cx="521280" cy="927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_s60445"/>
          <p:cNvCxnSpPr>
            <a:endCxn id="224" idx="2"/>
          </p:cNvCxnSpPr>
          <p:nvPr/>
        </p:nvCxnSpPr>
        <p:spPr>
          <a:xfrm flipH="1" flipV="1" rot="5400000">
            <a:off x="4357080" y="4757400"/>
            <a:ext cx="486360" cy="1003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6" name="_s60440"/>
          <p:cNvCxnSpPr>
            <a:stCxn id="224" idx="0"/>
          </p:cNvCxnSpPr>
          <p:nvPr/>
        </p:nvCxnSpPr>
        <p:spPr>
          <a:xfrm flipV="1" rot="16200000">
            <a:off x="4538880" y="3478320"/>
            <a:ext cx="488160" cy="63900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7" name="_s60438"/>
          <p:cNvCxnSpPr>
            <a:stCxn id="228" idx="0"/>
          </p:cNvCxnSpPr>
          <p:nvPr/>
        </p:nvCxnSpPr>
        <p:spPr>
          <a:xfrm flipH="1" flipV="1" rot="5400000">
            <a:off x="3863520" y="3441240"/>
            <a:ext cx="489600" cy="711720"/>
          </a:xfrm>
          <a:prstGeom prst="bentConnector3">
            <a:avLst>
              <a:gd name="adj1" fmla="val 3061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9" name="_s60436"/>
          <p:cNvCxnSpPr>
            <a:stCxn id="230" idx="0"/>
          </p:cNvCxnSpPr>
          <p:nvPr/>
        </p:nvCxnSpPr>
        <p:spPr>
          <a:xfrm flipV="1" rot="16200000">
            <a:off x="1748160" y="3427560"/>
            <a:ext cx="488160" cy="74052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1" name="_s60434"/>
          <p:cNvCxnSpPr>
            <a:stCxn id="232" idx="0"/>
          </p:cNvCxnSpPr>
          <p:nvPr/>
        </p:nvCxnSpPr>
        <p:spPr>
          <a:xfrm flipH="1" flipV="1" rot="5400000">
            <a:off x="947160" y="3366360"/>
            <a:ext cx="488160" cy="862920"/>
          </a:xfrm>
          <a:prstGeom prst="bentConnector3">
            <a:avLst>
              <a:gd name="adj1" fmla="val 4981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3" name="_s60432"/>
          <p:cNvCxnSpPr>
            <a:endCxn id="234" idx="2"/>
          </p:cNvCxnSpPr>
          <p:nvPr/>
        </p:nvCxnSpPr>
        <p:spPr>
          <a:xfrm flipV="1" rot="16200000">
            <a:off x="5443920" y="558720"/>
            <a:ext cx="1146600" cy="2891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" name="_s60430"/>
          <p:cNvCxnSpPr>
            <a:endCxn id="234" idx="2"/>
          </p:cNvCxnSpPr>
          <p:nvPr/>
        </p:nvCxnSpPr>
        <p:spPr>
          <a:xfrm flipH="1" flipV="1" rot="5400000">
            <a:off x="3944880" y="1950480"/>
            <a:ext cx="1146600" cy="108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6" name="_s60429"/>
          <p:cNvCxnSpPr>
            <a:endCxn id="234" idx="2"/>
          </p:cNvCxnSpPr>
          <p:nvPr/>
        </p:nvCxnSpPr>
        <p:spPr>
          <a:xfrm flipH="1" flipV="1" rot="5400000">
            <a:off x="3234240" y="1239840"/>
            <a:ext cx="1146600" cy="1529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_s60428"/>
          <p:cNvCxnSpPr>
            <a:endCxn id="234" idx="2"/>
          </p:cNvCxnSpPr>
          <p:nvPr/>
        </p:nvCxnSpPr>
        <p:spPr>
          <a:xfrm flipH="1" flipV="1" rot="5400000">
            <a:off x="2523960" y="529560"/>
            <a:ext cx="1146600" cy="2950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_s60424"/>
          <p:cNvSpPr/>
          <p:nvPr/>
        </p:nvSpPr>
        <p:spPr>
          <a:xfrm>
            <a:off x="3657600" y="914400"/>
            <a:ext cx="1828800" cy="51768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25560">
            <a:solidFill>
              <a:srgbClr val="06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CLASIFICACIÓN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238" name="_s60425"/>
          <p:cNvGrpSpPr/>
          <p:nvPr/>
        </p:nvGrpSpPr>
        <p:grpSpPr>
          <a:xfrm>
            <a:off x="938160" y="2541600"/>
            <a:ext cx="1366920" cy="1122480"/>
            <a:chOff x="938160" y="2541600"/>
            <a:chExt cx="1366920" cy="1122480"/>
          </a:xfrm>
        </p:grpSpPr>
        <p:pic>
          <p:nvPicPr>
            <p:cNvPr id="239" name="_s60425" descr=""/>
            <p:cNvPicPr/>
            <p:nvPr/>
          </p:nvPicPr>
          <p:blipFill>
            <a:blip r:embed="rId1"/>
            <a:stretch/>
          </p:blipFill>
          <p:spPr>
            <a:xfrm>
              <a:off x="938160" y="2541600"/>
              <a:ext cx="1366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062000" y="2625840"/>
              <a:ext cx="11206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Tahoma"/>
                </a:rPr>
                <a:t>óxido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grpSp>
        <p:nvGrpSpPr>
          <p:cNvPr id="241" name="_s60426"/>
          <p:cNvGrpSpPr/>
          <p:nvPr/>
        </p:nvGrpSpPr>
        <p:grpSpPr>
          <a:xfrm>
            <a:off x="2352600" y="2541600"/>
            <a:ext cx="1371600" cy="1122480"/>
            <a:chOff x="2352600" y="2541600"/>
            <a:chExt cx="1371600" cy="1122480"/>
          </a:xfrm>
        </p:grpSpPr>
        <p:pic>
          <p:nvPicPr>
            <p:cNvPr id="242" name="_s60426" descr=""/>
            <p:cNvPicPr/>
            <p:nvPr/>
          </p:nvPicPr>
          <p:blipFill>
            <a:blip r:embed="rId2"/>
            <a:stretch/>
          </p:blipFill>
          <p:spPr>
            <a:xfrm>
              <a:off x="2352600" y="2541600"/>
              <a:ext cx="13716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481120" y="2625840"/>
              <a:ext cx="112392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Tahoma"/>
                </a:rPr>
                <a:t>peróxido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grpSp>
        <p:nvGrpSpPr>
          <p:cNvPr id="244" name="_s60427"/>
          <p:cNvGrpSpPr/>
          <p:nvPr/>
        </p:nvGrpSpPr>
        <p:grpSpPr>
          <a:xfrm>
            <a:off x="3786120" y="2541600"/>
            <a:ext cx="1359000" cy="1122480"/>
            <a:chOff x="3786120" y="2541600"/>
            <a:chExt cx="1359000" cy="1122480"/>
          </a:xfrm>
        </p:grpSpPr>
        <p:pic>
          <p:nvPicPr>
            <p:cNvPr id="245" name="_s60427" descr=""/>
            <p:cNvPicPr/>
            <p:nvPr/>
          </p:nvPicPr>
          <p:blipFill>
            <a:blip r:embed="rId3"/>
            <a:stretch/>
          </p:blipFill>
          <p:spPr>
            <a:xfrm>
              <a:off x="3786120" y="2541600"/>
              <a:ext cx="13590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903840" y="2625840"/>
              <a:ext cx="11206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Tahoma"/>
                </a:rPr>
                <a:t>hidruro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grpSp>
        <p:nvGrpSpPr>
          <p:cNvPr id="247" name="_s60431"/>
          <p:cNvGrpSpPr/>
          <p:nvPr/>
        </p:nvGrpSpPr>
        <p:grpSpPr>
          <a:xfrm>
            <a:off x="6602400" y="2541600"/>
            <a:ext cx="1719360" cy="1122480"/>
            <a:chOff x="6602400" y="2541600"/>
            <a:chExt cx="1719360" cy="1122480"/>
          </a:xfrm>
        </p:grpSpPr>
        <p:pic>
          <p:nvPicPr>
            <p:cNvPr id="248" name="_s60431" descr=""/>
            <p:cNvPicPr/>
            <p:nvPr/>
          </p:nvPicPr>
          <p:blipFill>
            <a:blip r:embed="rId4"/>
            <a:stretch/>
          </p:blipFill>
          <p:spPr>
            <a:xfrm>
              <a:off x="6602400" y="2541600"/>
              <a:ext cx="17193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743880" y="2625840"/>
              <a:ext cx="14382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Tahoma"/>
                </a:rPr>
                <a:t>sales neutra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sp>
        <p:nvSpPr>
          <p:cNvPr id="232" name="_s60433"/>
          <p:cNvSpPr/>
          <p:nvPr/>
        </p:nvSpPr>
        <p:spPr>
          <a:xfrm>
            <a:off x="0" y="4041720"/>
            <a:ext cx="1521000" cy="961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óxidos básico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30" name="_s60435"/>
          <p:cNvSpPr/>
          <p:nvPr/>
        </p:nvSpPr>
        <p:spPr>
          <a:xfrm>
            <a:off x="1600200" y="4041720"/>
            <a:ext cx="152388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óxidos ácido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8" name="_s60437"/>
          <p:cNvSpPr/>
          <p:nvPr/>
        </p:nvSpPr>
        <p:spPr>
          <a:xfrm>
            <a:off x="3143160" y="4041720"/>
            <a:ext cx="122076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hidruros</a:t>
            </a:r>
            <a:br>
              <a:rPr sz="1600"/>
            </a:b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metálico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4" name="_s60439"/>
          <p:cNvSpPr/>
          <p:nvPr/>
        </p:nvSpPr>
        <p:spPr>
          <a:xfrm>
            <a:off x="4419720" y="4041720"/>
            <a:ext cx="136368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hidruros</a:t>
            </a:r>
            <a:br>
              <a:rPr sz="1600"/>
            </a:b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no metálico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pSp>
        <p:nvGrpSpPr>
          <p:cNvPr id="250" name="_s60444"/>
          <p:cNvGrpSpPr/>
          <p:nvPr/>
        </p:nvGrpSpPr>
        <p:grpSpPr>
          <a:xfrm>
            <a:off x="3024360" y="5467320"/>
            <a:ext cx="2144520" cy="1122480"/>
            <a:chOff x="3024360" y="5467320"/>
            <a:chExt cx="2144520" cy="1122480"/>
          </a:xfrm>
        </p:grpSpPr>
        <p:pic>
          <p:nvPicPr>
            <p:cNvPr id="251" name="_s60444" descr=""/>
            <p:cNvPicPr/>
            <p:nvPr/>
          </p:nvPicPr>
          <p:blipFill>
            <a:blip r:embed="rId5"/>
            <a:stretch/>
          </p:blipFill>
          <p:spPr>
            <a:xfrm>
              <a:off x="3024360" y="5467320"/>
              <a:ext cx="21445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171960" y="5549760"/>
              <a:ext cx="185256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grupos 13, 14,15</a:t>
              </a:r>
              <a:br>
                <a:rPr sz="1600"/>
              </a:b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hidruros volátiles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grpSp>
        <p:nvGrpSpPr>
          <p:cNvPr id="253" name="_s60452"/>
          <p:cNvGrpSpPr/>
          <p:nvPr/>
        </p:nvGrpSpPr>
        <p:grpSpPr>
          <a:xfrm>
            <a:off x="5138640" y="5499000"/>
            <a:ext cx="1779840" cy="1090800"/>
            <a:chOff x="5138640" y="5499000"/>
            <a:chExt cx="1779840" cy="1090800"/>
          </a:xfrm>
        </p:grpSpPr>
        <p:pic>
          <p:nvPicPr>
            <p:cNvPr id="254" name="_s60452" descr=""/>
            <p:cNvPicPr/>
            <p:nvPr/>
          </p:nvPicPr>
          <p:blipFill>
            <a:blip r:embed="rId6"/>
            <a:stretch/>
          </p:blipFill>
          <p:spPr>
            <a:xfrm>
              <a:off x="5138640" y="5499000"/>
              <a:ext cx="177984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321160" y="5583240"/>
              <a:ext cx="1414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grupos 16, 17</a:t>
              </a:r>
              <a:br>
                <a:rPr sz="1600"/>
              </a:b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haluros de</a:t>
              </a:r>
              <a:br>
                <a:rPr sz="1600"/>
              </a:b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hidrógeno</a:t>
              </a:r>
              <a:endParaRPr b="0" lang="en-US" sz="1600" spc="-1" strike="noStrike">
                <a:solidFill>
                  <a:srgbClr val="04617b"/>
                </a:solidFill>
                <a:latin typeface="Comic Sans MS"/>
              </a:endParaRPr>
            </a:p>
          </p:txBody>
        </p:sp>
      </p:grpSp>
      <p:sp>
        <p:nvSpPr>
          <p:cNvPr id="222" name="_s60454"/>
          <p:cNvSpPr/>
          <p:nvPr/>
        </p:nvSpPr>
        <p:spPr>
          <a:xfrm>
            <a:off x="5867280" y="4041720"/>
            <a:ext cx="144792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sales neutra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0" name="_s60456"/>
          <p:cNvSpPr/>
          <p:nvPr/>
        </p:nvSpPr>
        <p:spPr>
          <a:xfrm>
            <a:off x="7404120" y="4041720"/>
            <a:ext cx="1511280" cy="97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Tahoma"/>
              </a:rPr>
              <a:t>sales volátiles</a:t>
            </a: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2357280" y="214200"/>
            <a:ext cx="47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89ca3"/>
                </a:solidFill>
                <a:latin typeface="Arial"/>
                <a:ea typeface="Arial"/>
              </a:rPr>
              <a:t>COMPUESTOS BINARIOS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941400" y="1810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ESTOS BINARIOS  SALES BINARIAS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14240" y="9907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Son combinaciones de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Tahoma"/>
              </a:rPr>
              <a:t>dos elementos</a:t>
            </a: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, que no son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Tahoma"/>
              </a:rPr>
              <a:t>ni el O ni el H</a:t>
            </a: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71720" y="20779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s-ES" sz="2000" spc="-1" strike="noStrike" u="sng">
                <a:solidFill>
                  <a:srgbClr val="3333ff"/>
                </a:solidFill>
                <a:uFillTx/>
                <a:latin typeface="Tahoma"/>
              </a:rPr>
              <a:t>Sales neutras</a:t>
            </a: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: son combinaciones de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Tahoma"/>
              </a:rPr>
              <a:t>un metal y un no metal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ahoma"/>
              </a:rPr>
              <a:t>. </a:t>
            </a:r>
            <a:endParaRPr b="0" lang="en-US" sz="20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23800" y="4437000"/>
          <a:ext cx="7620120" cy="2127240"/>
        </p:xfrm>
        <a:graphic>
          <a:graphicData uri="http://schemas.openxmlformats.org/drawingml/2006/table">
            <a:tbl>
              <a:tblPr/>
              <a:tblGrid>
                <a:gridCol w="1473120"/>
                <a:gridCol w="2032200"/>
                <a:gridCol w="2305080"/>
                <a:gridCol w="1809720"/>
              </a:tblGrid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est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Sistemática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Tradicional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Li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oruro de liti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oruro de liti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e2d700"/>
                          </a:solidFill>
                          <a:latin typeface="Tahoma"/>
                        </a:rPr>
                        <a:t>fluoruro lític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Au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r</a:t>
                      </a:r>
                      <a:r>
                        <a:rPr b="1" lang="es-ES" sz="1400" spc="-1" strike="noStrike" baseline="-25000">
                          <a:solidFill>
                            <a:srgbClr val="3333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hidruro de or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muro de oro (III)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e2d700"/>
                          </a:solidFill>
                          <a:latin typeface="Tahoma"/>
                        </a:rPr>
                        <a:t>bromuro áuric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Na</a:t>
                      </a:r>
                      <a:r>
                        <a:rPr b="1" lang="es-ES" sz="14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uro de disodi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uro de sodi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e2d700"/>
                          </a:solidFill>
                          <a:latin typeface="Tahoma"/>
                        </a:rPr>
                        <a:t>sulfuro sódic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Sn</a:t>
                      </a:r>
                      <a:r>
                        <a:rPr b="1" lang="es-E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</a:t>
                      </a:r>
                      <a:r>
                        <a:rPr b="1" lang="es-ES" sz="1400" spc="-1" strike="noStrike" baseline="-25000">
                          <a:solidFill>
                            <a:srgbClr val="3333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ulfuro de estañ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uro de estaño (IV)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e2d700"/>
                          </a:solidFill>
                          <a:latin typeface="Tahoma"/>
                        </a:rPr>
                        <a:t>Sulfuro estánnico</a:t>
                      </a:r>
                      <a:endParaRPr b="0" lang="en-US" sz="14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Object 40"/>
          <p:cNvGraphicFramePr/>
          <p:nvPr/>
        </p:nvGraphicFramePr>
        <p:xfrm>
          <a:off x="152280" y="1447920"/>
          <a:ext cx="4939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93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41"/>
          <p:cNvSpPr/>
          <p:nvPr/>
        </p:nvSpPr>
        <p:spPr>
          <a:xfrm>
            <a:off x="152280" y="1066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4" name="Oval 42"/>
          <p:cNvSpPr/>
          <p:nvPr/>
        </p:nvSpPr>
        <p:spPr>
          <a:xfrm>
            <a:off x="0" y="914400"/>
            <a:ext cx="685800" cy="11430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65" name="Object 43"/>
          <p:cNvGraphicFramePr/>
          <p:nvPr/>
        </p:nvGraphicFramePr>
        <p:xfrm>
          <a:off x="8001000" y="1447920"/>
          <a:ext cx="5778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1447920"/>
                    <a:ext cx="577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44"/>
          <p:cNvSpPr/>
          <p:nvPr/>
        </p:nvSpPr>
        <p:spPr>
          <a:xfrm>
            <a:off x="8535960" y="1523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8" name="Oval 45"/>
          <p:cNvSpPr/>
          <p:nvPr/>
        </p:nvSpPr>
        <p:spPr>
          <a:xfrm>
            <a:off x="7924680" y="1295280"/>
            <a:ext cx="1067040" cy="9144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69" name="Object 46"/>
          <p:cNvGraphicFramePr/>
          <p:nvPr/>
        </p:nvGraphicFramePr>
        <p:xfrm>
          <a:off x="5181480" y="3581280"/>
          <a:ext cx="4572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58128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47"/>
          <p:cNvGraphicFramePr/>
          <p:nvPr/>
        </p:nvGraphicFramePr>
        <p:xfrm>
          <a:off x="8077320" y="2514600"/>
          <a:ext cx="4572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77320" y="251460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48"/>
          <p:cNvSpPr/>
          <p:nvPr/>
        </p:nvSpPr>
        <p:spPr>
          <a:xfrm>
            <a:off x="510552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1, +3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4" name="Oval 49"/>
          <p:cNvSpPr/>
          <p:nvPr/>
        </p:nvSpPr>
        <p:spPr>
          <a:xfrm>
            <a:off x="5029200" y="2971800"/>
            <a:ext cx="914400" cy="129528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8612280" y="2590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6" name="Oval 51"/>
          <p:cNvSpPr/>
          <p:nvPr/>
        </p:nvSpPr>
        <p:spPr>
          <a:xfrm>
            <a:off x="8001000" y="2362320"/>
            <a:ext cx="1066680" cy="9144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77" name="Object 52"/>
          <p:cNvGraphicFramePr/>
          <p:nvPr/>
        </p:nvGraphicFramePr>
        <p:xfrm>
          <a:off x="152280" y="2057400"/>
          <a:ext cx="4572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20574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54"/>
          <p:cNvGraphicFramePr/>
          <p:nvPr/>
        </p:nvGraphicFramePr>
        <p:xfrm>
          <a:off x="7543800" y="1981080"/>
          <a:ext cx="4572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5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198108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55"/>
          <p:cNvSpPr/>
          <p:nvPr/>
        </p:nvSpPr>
        <p:spPr>
          <a:xfrm>
            <a:off x="701028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2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2" name="Oval 56"/>
          <p:cNvSpPr/>
          <p:nvPr/>
        </p:nvSpPr>
        <p:spPr>
          <a:xfrm>
            <a:off x="7010280" y="1905120"/>
            <a:ext cx="1067040" cy="76176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3" name="Text Box 57"/>
          <p:cNvSpPr/>
          <p:nvPr/>
        </p:nvSpPr>
        <p:spPr>
          <a:xfrm>
            <a:off x="763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4" name="Oval 58"/>
          <p:cNvSpPr/>
          <p:nvPr/>
        </p:nvSpPr>
        <p:spPr>
          <a:xfrm>
            <a:off x="0" y="2057400"/>
            <a:ext cx="685800" cy="11430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85" name="Object 59"/>
          <p:cNvGraphicFramePr/>
          <p:nvPr/>
        </p:nvGraphicFramePr>
        <p:xfrm>
          <a:off x="6629400" y="3048120"/>
          <a:ext cx="501480" cy="53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048120"/>
                    <a:ext cx="501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60"/>
          <p:cNvSpPr/>
          <p:nvPr/>
        </p:nvSpPr>
        <p:spPr>
          <a:xfrm>
            <a:off x="71629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 2, +4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8" name="Oval 61"/>
          <p:cNvSpPr/>
          <p:nvPr/>
        </p:nvSpPr>
        <p:spPr>
          <a:xfrm>
            <a:off x="6477120" y="2895480"/>
            <a:ext cx="1523880" cy="76212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52280" y="152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ESTOS BINARIOS SALES BINARIAS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280" y="1066680"/>
            <a:ext cx="606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s-ES" sz="1800" spc="-1" strike="noStrike" u="sng">
                <a:solidFill>
                  <a:srgbClr val="3333ff"/>
                </a:solidFill>
                <a:uFillTx/>
                <a:latin typeface="Tahoma"/>
              </a:rPr>
              <a:t>Sales volátiles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: </a:t>
            </a:r>
            <a:r>
              <a:rPr b="1" lang="es-ES" sz="1800" spc="-1" strike="noStrike">
                <a:solidFill>
                  <a:srgbClr val="c00000"/>
                </a:solidFill>
                <a:latin typeface="Tahoma"/>
              </a:rPr>
              <a:t>son combinaciones de </a:t>
            </a:r>
            <a:r>
              <a:rPr b="1" lang="es-ES" sz="1800" spc="-1" strike="noStrike" u="sng">
                <a:solidFill>
                  <a:srgbClr val="c00000"/>
                </a:solidFill>
                <a:uFillTx/>
                <a:latin typeface="Tahoma"/>
              </a:rPr>
              <a:t>dos  no metales</a:t>
            </a:r>
            <a:r>
              <a:rPr b="1" lang="es-ES" sz="1800" spc="-1" strike="noStrike">
                <a:solidFill>
                  <a:srgbClr val="c00000"/>
                </a:solidFill>
                <a:latin typeface="Tahoma"/>
              </a:rPr>
              <a:t>. Se escribe a la izquierda el elemento que se encuentre primero en esta relación: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5dfd0"/>
                </a:solidFill>
                <a:latin typeface="Tahoma"/>
              </a:rPr>
              <a:t>             </a:t>
            </a:r>
            <a:r>
              <a:rPr b="1" lang="es-ES" sz="1800" spc="-1" strike="noStrike">
                <a:solidFill>
                  <a:srgbClr val="85dfd0"/>
                </a:solidFill>
                <a:latin typeface="Tahoma"/>
              </a:rPr>
              <a:t>B&lt;Si&lt;C&lt;Sb&lt;As&lt;P&lt;N&lt;Te&lt;Se&lt;S&lt;I&lt;Br&lt;Cl&lt;O&lt;F.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Tahoma"/>
              </a:rPr>
              <a:t>Se recomienda la nomenclatura SISTEMATICA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280" y="3429000"/>
          <a:ext cx="7620120" cy="3017880"/>
        </p:xfrm>
        <a:graphic>
          <a:graphicData uri="http://schemas.openxmlformats.org/drawingml/2006/table">
            <a:tbl>
              <a:tblPr/>
              <a:tblGrid>
                <a:gridCol w="1473480"/>
                <a:gridCol w="2608200"/>
                <a:gridCol w="2592360"/>
                <a:gridCol w="946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est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istemática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tock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rad.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rF</a:t>
                      </a:r>
                      <a:r>
                        <a:rPr b="1" lang="es-ES" sz="16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fluoruro de brom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uoruro de bromo (III)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rCl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ruro de brom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ruro de bromo (I)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Cl</a:t>
                      </a:r>
                      <a:r>
                        <a:rPr b="1" lang="es-ES" sz="16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loruro de carbon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ruro de carbono (IV)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s</a:t>
                      </a:r>
                      <a:r>
                        <a:rPr b="1" lang="es-ES" sz="16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e</a:t>
                      </a:r>
                      <a:r>
                        <a:rPr b="1" lang="es-ES" sz="1600" spc="-1" strike="noStrike" baseline="-25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seleniuro de diarsénico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eniuro de arsénico (III)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-</a:t>
                      </a:r>
                      <a:endParaRPr b="0" lang="en-US" sz="1600" spc="-1" strike="noStrike">
                        <a:solidFill>
                          <a:srgbClr val="04617b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2" name="Object 37"/>
          <p:cNvGraphicFramePr/>
          <p:nvPr/>
        </p:nvGraphicFramePr>
        <p:xfrm>
          <a:off x="8001000" y="1447920"/>
          <a:ext cx="5778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1447920"/>
                    <a:ext cx="577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38"/>
          <p:cNvSpPr/>
          <p:nvPr/>
        </p:nvSpPr>
        <p:spPr>
          <a:xfrm>
            <a:off x="8535960" y="1523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95" name="Oval 39"/>
          <p:cNvSpPr/>
          <p:nvPr/>
        </p:nvSpPr>
        <p:spPr>
          <a:xfrm>
            <a:off x="7924680" y="1295280"/>
            <a:ext cx="1067040" cy="6858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96" name="Object 40"/>
          <p:cNvGraphicFramePr/>
          <p:nvPr/>
        </p:nvGraphicFramePr>
        <p:xfrm>
          <a:off x="8077320" y="2514600"/>
          <a:ext cx="457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251460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41"/>
          <p:cNvSpPr/>
          <p:nvPr/>
        </p:nvSpPr>
        <p:spPr>
          <a:xfrm>
            <a:off x="7994880" y="297180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1,+1, +3, 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5, +7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299" name="Object 43"/>
          <p:cNvGraphicFramePr/>
          <p:nvPr/>
        </p:nvGraphicFramePr>
        <p:xfrm>
          <a:off x="8001000" y="1981080"/>
          <a:ext cx="5335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19810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46"/>
          <p:cNvGraphicFramePr/>
          <p:nvPr/>
        </p:nvGraphicFramePr>
        <p:xfrm>
          <a:off x="6629400" y="1371600"/>
          <a:ext cx="53352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1371600"/>
                    <a:ext cx="533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Oval 47"/>
          <p:cNvSpPr/>
          <p:nvPr/>
        </p:nvSpPr>
        <p:spPr>
          <a:xfrm>
            <a:off x="6324480" y="533520"/>
            <a:ext cx="1067040" cy="144756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04" name="Rectangle 48"/>
          <p:cNvSpPr/>
          <p:nvPr/>
        </p:nvSpPr>
        <p:spPr>
          <a:xfrm>
            <a:off x="6402240" y="9144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2, +4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graphicFrame>
        <p:nvGraphicFramePr>
          <p:cNvPr id="305" name="Object 49"/>
          <p:cNvGraphicFramePr/>
          <p:nvPr/>
        </p:nvGraphicFramePr>
        <p:xfrm>
          <a:off x="7086600" y="2514600"/>
          <a:ext cx="4572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6" name="Object 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251460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50"/>
          <p:cNvGraphicFramePr/>
          <p:nvPr/>
        </p:nvGraphicFramePr>
        <p:xfrm>
          <a:off x="7543800" y="2514600"/>
          <a:ext cx="51768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8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2514600"/>
                    <a:ext cx="517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Oval 42"/>
          <p:cNvSpPr/>
          <p:nvPr/>
        </p:nvSpPr>
        <p:spPr>
          <a:xfrm>
            <a:off x="7467480" y="2133720"/>
            <a:ext cx="609840" cy="9144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0" name="Text Box 51"/>
          <p:cNvSpPr/>
          <p:nvPr/>
        </p:nvSpPr>
        <p:spPr>
          <a:xfrm>
            <a:off x="76201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-2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1" name="Oval 52"/>
          <p:cNvSpPr/>
          <p:nvPr/>
        </p:nvSpPr>
        <p:spPr>
          <a:xfrm>
            <a:off x="8001000" y="1981080"/>
            <a:ext cx="1143000" cy="213372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6934320" y="2133720"/>
            <a:ext cx="609480" cy="914400"/>
          </a:xfrm>
          <a:prstGeom prst="ellipse">
            <a:avLst/>
          </a:prstGeom>
          <a:noFill/>
          <a:ln w="93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3" name="Text Box 54"/>
          <p:cNvSpPr/>
          <p:nvPr/>
        </p:nvSpPr>
        <p:spPr>
          <a:xfrm>
            <a:off x="7086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+3</a:t>
            </a:r>
            <a:endParaRPr b="0" lang="en-US" sz="1800" spc="-1" strike="noStrike">
              <a:solidFill>
                <a:srgbClr val="04617b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3:20:47Z</dcterms:created>
  <dc:creator>UNI</dc:creator>
  <dc:description/>
  <dc:language>en-US</dc:language>
  <cp:lastModifiedBy>user</cp:lastModifiedBy>
  <dcterms:modified xsi:type="dcterms:W3CDTF">2012-05-04T22:18:03Z</dcterms:modified>
  <cp:revision>697</cp:revision>
  <dc:subject/>
  <dc:title>Presentación de PowerPoint</dc:title>
</cp:coreProperties>
</file>